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png" ContentType="image/png"/>
  <Override PartName="/ppt/media/image15.jpeg" ContentType="image/jpeg"/>
  <Override PartName="/ppt/media/okstand-back.wav" ContentType="audio/x-wav"/>
  <Override PartName="/ppt/media/image6.png" ContentType="image/png"/>
  <Override PartName="/ppt/media/gobble.wav" ContentType="audio/x-wav"/>
  <Override PartName="/ppt/media/image14.png" ContentType="image/png"/>
  <Override PartName="/ppt/media/heartbeat.wav" ContentType="audio/x-wav"/>
  <Override PartName="/ppt/media/image10.jpeg" ContentType="image/jpeg"/>
  <Override PartName="/ppt/media/thinking2%5B1%5D.wav" ContentType="audio/x-wav"/>
  <Override PartName="/ppt/media/eyes1.wav" ContentType="audio/x-wav"/>
  <Override PartName="/ppt/media/see.wav" ContentType="audio/x-wav"/>
  <Override PartName="/ppt/media/image13.png" ContentType="image/png"/>
  <Override PartName="/ppt/media/image12.jpeg" ContentType="image/jpeg"/>
  <Override PartName="/ppt/media/image4.png" ContentType="image/png"/>
  <Override PartName="/ppt/media/destroyU1.wav" ContentType="audio/x-wav"/>
  <Override PartName="/ppt/media/image11.png" ContentType="image/png"/>
  <Override PartName="/ppt/media/howl1.wav" ContentType="audio/x-wav"/>
  <Override PartName="/ppt/media/image18.png" ContentType="image/png"/>
  <Override PartName="/ppt/media/image1.png" ContentType="image/png"/>
  <Override PartName="/ppt/media/image24.png" ContentType="image/png"/>
  <Override PartName="/ppt/media/bones.wav" ContentType="audio/x-wav"/>
  <Override PartName="/ppt/media/image21.png" ContentType="image/png"/>
  <Override PartName="/ppt/media/flush.wav" ContentType="audio/x-wav"/>
  <Override PartName="/ppt/media/clule05.wav" ContentType="audio/x-wav"/>
  <Override PartName="/ppt/media/image19.jpeg" ContentType="image/jpeg"/>
  <Override PartName="/ppt/media/image22.png" ContentType="image/png"/>
  <Override PartName="/ppt/media/confusing.wav" ContentType="audio/x-wav"/>
  <Override PartName="/ppt/media/image23.png" ContentType="image/png"/>
  <Override PartName="/ppt/media/image7.png" ContentType="image/png"/>
  <Override PartName="/ppt/media/image26.png" ContentType="image/png"/>
  <Override PartName="/ppt/media/image3.png" ContentType="image/png"/>
  <Override PartName="/ppt/media/away1.wav" ContentType="audio/x-wav"/>
  <Override PartName="/ppt/media/image5.png" ContentType="image/png"/>
  <Override PartName="/ppt/media/image8.jpeg" ContentType="image/jpeg"/>
  <Override PartName="/ppt/media/devlpmnt.wav" ContentType="audio/x-wav"/>
  <Override PartName="/ppt/media/image25.jpeg" ContentType="image/jpeg"/>
  <Override PartName="/ppt/media/image2.png" ContentType="image/png"/>
  <Override PartName="/ppt/media/cough.wav" ContentType="audio/x-wav"/>
  <Override PartName="/ppt/media/snore1.wav" ContentType="audio/x-wav"/>
  <Override PartName="/ppt/media/amazing.wav" ContentType="audio/x-wav"/>
  <Override PartName="/ppt/media/image9.png" ContentType="image/png"/>
  <Override PartName="/ppt/media/image20.jpeg" ContentType="image/jpeg"/>
  <Override PartName="/ppt/media/splat.wav" ContentType="audio/x-wav"/>
  <Override PartName="/ppt/media/Hubba.wav" ContentType="audio/x-wav"/>
  <Override PartName="/ppt/media/nerve.wav" ContentType="audio/x-wav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B06-0B89-4773-95F2-C553404F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4DD-519D-4916-846F-F956D0ED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D5C-5A04-465B-9979-A47A7C30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914-E557-4FED-91A5-8F5CD647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44EC-B0C9-4D1A-961A-A55624DF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4223-9B20-4501-A5E9-24C9D03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E67-691B-45D1-B13B-E722954C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6C9-8E04-4EE0-8036-908CC874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5A08-A838-4218-886C-27C3FA6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353-6E63-432E-9872-F85E1E53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D27A-2102-48AC-91AD-64F5B0C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823-0A7E-41C2-B6BE-16A038E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9FD-D9FA-4C6B-92D4-6E96480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163-469F-4DC4-8338-1F710C1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F4D-8882-48E6-80EB-76B03861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237B-B10C-417A-A84E-5D56063A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3AC9-2D2C-44DD-8437-58AF9220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CFB-BC19-436A-8072-6CA18DE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DAD-3489-4E8C-A670-460C371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6EB-CED1-410B-8D0D-DE2CF520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F70-64B3-4C28-9FFE-40089EA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31E-C61C-4692-8B58-D7E3538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639-80D8-4B85-B99C-DDF4F8A6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376-1AEE-4931-BC22-C9532C7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6BB-707B-47F4-B611-3EBA7561C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7169-6554-430D-BA6D-FAB49AFB0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way1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Hubb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plat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estroyU1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heartbeat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nore1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okstand-back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thinking2%5B1%5D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audio" Target="../media/eyes1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ough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audio" Target="../media/bon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howl1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onfusing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flush.wav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audio" Target="../media/gobble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4.png"/><Relationship Id="rId7" Type="http://schemas.openxmlformats.org/officeDocument/2006/relationships/audio" Target="../media/nerv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mazing.wav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5.jpeg"/><Relationship Id="rId7" Type="http://schemas.openxmlformats.org/officeDocument/2006/relationships/audio" Target="../media/see.wav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mogul.ahs.aspen.k12.co.us/tferro/human/anatomy.html" TargetMode="External"/><Relationship Id="rId7" Type="http://schemas.openxmlformats.org/officeDocument/2006/relationships/hyperlink" Target="http://mogul.ahs.aspen.k12.co.us/tferro/human/anatomy.html" TargetMode="External"/><Relationship Id="rId8" Type="http://schemas.openxmlformats.org/officeDocument/2006/relationships/hyperlink" Target="http://www.innerbody.com/htm/body.html" TargetMode="External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lule05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evlpmnt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0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0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28600" y="1981080"/>
            <a:ext cx="8763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Forte"/>
              </a:rPr>
              <a:t>Anatomy</a:t>
            </a:r>
            <a:endParaRPr b="0" lang="en-US" sz="80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Forte"/>
              </a:rPr>
              <a:t>How much do you know about the body?</a:t>
            </a:r>
            <a:endParaRPr b="0" lang="en-US" sz="80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04" name=""/>
          <p:cNvSpPr/>
          <p:nvPr/>
        </p:nvSpPr>
        <p:spPr>
          <a:xfrm>
            <a:off x="2534400" y="5867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 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6" name="away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60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61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at system distributes oxygen and nutrients to our body cel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6" name="Hubb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65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66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0880" y="2039760"/>
            <a:ext cx="472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circulatory system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distributes oxygen and nutrients to our body ce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heart2a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41148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72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73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74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at vessels in the human body carry blood away from the he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  <p:sndAc>
      <p:stSnd>
        <p:snd r:embed="rId6" name="spl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78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79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80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21337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Arterie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carry blood away from the hea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artery" descr=""/>
          <p:cNvPicPr/>
          <p:nvPr/>
        </p:nvPicPr>
        <p:blipFill>
          <a:blip r:embed="rId6"/>
          <a:stretch/>
        </p:blipFill>
        <p:spPr>
          <a:xfrm>
            <a:off x="4316400" y="1828800"/>
            <a:ext cx="3608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85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86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cells in your body destroy germs:  red or whi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6" name="destroyU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91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92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2133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white cell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in your body destroy ger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clot" descr=""/>
          <p:cNvPicPr/>
          <p:nvPr/>
        </p:nvPicPr>
        <p:blipFill>
          <a:blip r:embed="rId6"/>
          <a:stretch/>
        </p:blipFill>
        <p:spPr>
          <a:xfrm>
            <a:off x="3124080" y="4038480"/>
            <a:ext cx="27432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97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98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99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00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0880" y="22096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s the aorta part of the human heart, lungs, or stomach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03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04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05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220968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aor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s part of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human heart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aorta" descr=""/>
          <p:cNvPicPr/>
          <p:nvPr/>
        </p:nvPicPr>
        <p:blipFill>
          <a:blip r:embed="rId6"/>
          <a:stretch/>
        </p:blipFill>
        <p:spPr>
          <a:xfrm>
            <a:off x="3886200" y="21337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11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12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0880" y="22096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vessels return blood to the heart:  veins or arteri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1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1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1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2096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Vein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return blood to the hea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veins" descr=""/>
          <p:cNvPicPr/>
          <p:nvPr/>
        </p:nvPicPr>
        <p:blipFill>
          <a:blip r:embed="rId6"/>
          <a:stretch/>
        </p:blipFill>
        <p:spPr>
          <a:xfrm>
            <a:off x="4800600" y="1914480"/>
            <a:ext cx="22096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0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0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21337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do you inhale when you breath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oxygen or carbon dioxid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6" name="snore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24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25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26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21337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at do surgeons remove from the body during an appendectom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6" name="okstand-ba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3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3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3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0880" y="21337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urgeons remove the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appendix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from the body during an appendectom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ppendix" descr=""/>
          <p:cNvPicPr/>
          <p:nvPr/>
        </p:nvPicPr>
        <p:blipFill>
          <a:blip r:embed="rId6"/>
          <a:stretch/>
        </p:blipFill>
        <p:spPr>
          <a:xfrm>
            <a:off x="3886200" y="4876920"/>
            <a:ext cx="1647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3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3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0880" y="21337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pituitary gland helps you grow.  Is it attached to your brain or your liv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6" name="thinking2%5B1%5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4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4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4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2133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pituitary gland is attached to your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brain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rainsde" descr=""/>
          <p:cNvPicPr/>
          <p:nvPr/>
        </p:nvPicPr>
        <p:blipFill>
          <a:blip r:embed="rId6"/>
          <a:stretch/>
        </p:blipFill>
        <p:spPr>
          <a:xfrm>
            <a:off x="3352680" y="3809880"/>
            <a:ext cx="2846520" cy="2743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343400" y="5334120"/>
            <a:ext cx="228600" cy="2286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50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51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52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is the recessive gene:  blue eyes, brown eyes, or curly hai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5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5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5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5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2133720"/>
            <a:ext cx="518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Blue eye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are created by a recessive ge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dnaphoto" descr=""/>
          <p:cNvPicPr/>
          <p:nvPr/>
        </p:nvPicPr>
        <p:blipFill>
          <a:blip r:embed="rId6"/>
          <a:stretch/>
        </p:blipFill>
        <p:spPr>
          <a:xfrm>
            <a:off x="5334120" y="2133720"/>
            <a:ext cx="350496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63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64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65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80880" y="21337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protects you from disease:  your immune system or your nervous syst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6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7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7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7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1905120"/>
            <a:ext cx="358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r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immune system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protects you from disea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immune%20cells" descr=""/>
          <p:cNvPicPr/>
          <p:nvPr/>
        </p:nvPicPr>
        <p:blipFill>
          <a:blip r:embed="rId6"/>
          <a:stretch/>
        </p:blipFill>
        <p:spPr>
          <a:xfrm>
            <a:off x="3276720" y="2055960"/>
            <a:ext cx="5562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7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7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7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re most bones in the body connected by tendons or ligamen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8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8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8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8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80880" y="2133720"/>
            <a:ext cx="4496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st bones in the body are connected by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ligament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ligaments" descr=""/>
          <p:cNvPicPr/>
          <p:nvPr/>
        </p:nvPicPr>
        <p:blipFill>
          <a:blip r:embed="rId6"/>
          <a:srcRect l="2928" t="1528" r="14442" b="7692"/>
          <a:stretch/>
        </p:blipFill>
        <p:spPr>
          <a:xfrm>
            <a:off x="5486400" y="1905120"/>
            <a:ext cx="21337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1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1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280" y="1905120"/>
            <a:ext cx="647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en you inhale you breathe in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oxygen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  W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 breathe ou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 exhale carbon diox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ungs2" descr=""/>
          <p:cNvPicPr/>
          <p:nvPr/>
        </p:nvPicPr>
        <p:blipFill>
          <a:blip r:embed="rId6"/>
          <a:stretch/>
        </p:blipFill>
        <p:spPr>
          <a:xfrm>
            <a:off x="6068880" y="2819520"/>
            <a:ext cx="3075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8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9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9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9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re vocal cords located inside your larynx, trachea, or esophag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295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296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297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298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0880" y="2133720"/>
            <a:ext cx="419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vocal cords are located inside your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larynx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larynx" descr=""/>
          <p:cNvPicPr/>
          <p:nvPr/>
        </p:nvPicPr>
        <p:blipFill>
          <a:blip r:embed="rId6"/>
          <a:stretch/>
        </p:blipFill>
        <p:spPr>
          <a:xfrm>
            <a:off x="4267080" y="1752480"/>
            <a:ext cx="3754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0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0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0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57200" y="2438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ere are your adenoi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08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09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10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28600" y="20574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r adenoids are in your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throat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adenoids1" descr=""/>
          <p:cNvPicPr/>
          <p:nvPr/>
        </p:nvPicPr>
        <p:blipFill>
          <a:blip r:embed="rId6"/>
          <a:stretch/>
        </p:blipFill>
        <p:spPr>
          <a:xfrm>
            <a:off x="3657600" y="3276720"/>
            <a:ext cx="5334120" cy="2376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rot="10812000">
            <a:off x="3276000" y="480024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1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1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1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1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0880" y="2133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at is the kidneys’ main waste produ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2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2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2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2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21337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kidneys’ main waste product is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urine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kidney" descr=""/>
          <p:cNvPicPr/>
          <p:nvPr/>
        </p:nvPicPr>
        <p:blipFill>
          <a:blip r:embed="rId6"/>
          <a:stretch/>
        </p:blipFill>
        <p:spPr>
          <a:xfrm>
            <a:off x="4191120" y="1752480"/>
            <a:ext cx="3692520" cy="4480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105520" y="1905120"/>
            <a:ext cx="380880" cy="2895480"/>
          </a:xfrm>
          <a:prstGeom prst="downArrow">
            <a:avLst>
              <a:gd name="adj1" fmla="val 50000"/>
              <a:gd name="adj2" fmla="val 1900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31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32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33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80880" y="22096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s undigested food stored in the large intestine, small intestine, or both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3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3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3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3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0880" y="22096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ndigested food stored in the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large intestine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intestine" descr=""/>
          <p:cNvPicPr/>
          <p:nvPr/>
        </p:nvPicPr>
        <p:blipFill>
          <a:blip r:embed="rId6"/>
          <a:stretch/>
        </p:blipFill>
        <p:spPr>
          <a:xfrm>
            <a:off x="5029200" y="1905120"/>
            <a:ext cx="3417840" cy="44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43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44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45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46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80880" y="22096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re cells that transmit sensory messages called nerve cells or muscle cel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4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5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5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5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3520" y="18320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ells that transmit sensory messages called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nerve cell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nerve%20cell" descr=""/>
          <p:cNvPicPr/>
          <p:nvPr/>
        </p:nvPicPr>
        <p:blipFill>
          <a:blip r:embed="rId6"/>
          <a:stretch/>
        </p:blipFill>
        <p:spPr>
          <a:xfrm>
            <a:off x="4572000" y="2362320"/>
            <a:ext cx="4305240" cy="28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2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en you inhale, does your chest expand or contra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6" name="amazing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56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57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58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59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80880" y="22096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o the optic nerves help you see, hear, smell, or tas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6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6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6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6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0880" y="22096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Optic nerve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elp you se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ptic_nerve" descr=""/>
          <p:cNvPicPr/>
          <p:nvPr/>
        </p:nvPicPr>
        <p:blipFill>
          <a:blip r:embed="rId6"/>
          <a:stretch/>
        </p:blipFill>
        <p:spPr>
          <a:xfrm>
            <a:off x="3048120" y="2286000"/>
            <a:ext cx="59436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369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370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371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372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80880" y="2209680"/>
            <a:ext cx="60199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sit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Human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atomy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Inner Body Onlin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ahoma"/>
              </a:rPr>
              <a:t>to learn more about anatom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skeleton" descr=""/>
          <p:cNvPicPr/>
          <p:nvPr/>
        </p:nvPicPr>
        <p:blipFill>
          <a:blip r:embed="rId9"/>
          <a:stretch/>
        </p:blipFill>
        <p:spPr>
          <a:xfrm>
            <a:off x="6188040" y="1905120"/>
            <a:ext cx="21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26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27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2133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en you inhale, your chest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expand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lungsx" descr=""/>
          <p:cNvPicPr/>
          <p:nvPr/>
        </p:nvPicPr>
        <p:blipFill>
          <a:blip r:embed="rId6"/>
          <a:stretch/>
        </p:blipFill>
        <p:spPr>
          <a:xfrm>
            <a:off x="3657600" y="4038480"/>
            <a:ext cx="1897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33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34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ich is a muscle in your chest:  the larynx, trachea, or diaphrag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lule05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39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40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41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2133720"/>
            <a:ext cx="44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diaphragm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is a muscle in your c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Diaphragm" descr=""/>
          <p:cNvPicPr/>
          <p:nvPr/>
        </p:nvPicPr>
        <p:blipFill>
          <a:blip r:embed="rId6"/>
          <a:stretch/>
        </p:blipFill>
        <p:spPr>
          <a:xfrm>
            <a:off x="5029200" y="1828800"/>
            <a:ext cx="38098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47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213372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w long does it take blood to circulate throughout your bod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6" name="devlpmn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gestivex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69200" y="0"/>
            <a:ext cx="102708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musclesx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24080" y="152280"/>
            <a:ext cx="1646280" cy="1656000"/>
          </a:xfrm>
          <a:prstGeom prst="rect">
            <a:avLst/>
          </a:prstGeom>
          <a:ln w="0">
            <a:noFill/>
          </a:ln>
        </p:spPr>
      </p:pic>
      <p:pic>
        <p:nvPicPr>
          <p:cNvPr id="152" name="skullx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3880" y="304920"/>
            <a:ext cx="1279800" cy="1265040"/>
          </a:xfrm>
          <a:prstGeom prst="rect">
            <a:avLst/>
          </a:prstGeom>
          <a:ln w="0">
            <a:noFill/>
          </a:ln>
        </p:spPr>
      </p:pic>
      <p:pic>
        <p:nvPicPr>
          <p:cNvPr id="153" name="brainfulx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952880" y="228600"/>
            <a:ext cx="127008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eyeballx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96080" y="60948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905120"/>
            <a:ext cx="5639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 takes blood about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one minute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to circulate throughout your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irculation" descr=""/>
          <p:cNvPicPr/>
          <p:nvPr/>
        </p:nvPicPr>
        <p:blipFill>
          <a:blip r:embed="rId6"/>
          <a:stretch/>
        </p:blipFill>
        <p:spPr>
          <a:xfrm>
            <a:off x="6029280" y="2590920"/>
            <a:ext cx="2774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3T17:49:22Z</dcterms:created>
  <dc:creator>Daryl Campbell</dc:creator>
  <dc:description/>
  <dc:language>en-US</dc:language>
  <cp:lastModifiedBy>Elisa Wern</cp:lastModifiedBy>
  <dcterms:modified xsi:type="dcterms:W3CDTF">2004-01-18T02:22:28Z</dcterms:modified>
  <cp:revision>9</cp:revision>
  <dc:subject/>
  <dc:title>PowerPoint Presentation</dc:title>
</cp:coreProperties>
</file>